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F57-1C42-49D2-B5C0-467A4F1F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492-0082-4F62-BE4C-879FD72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CBB-28B5-4C46-9FCE-A535A6CB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A03-83AF-4F4A-866C-C13E63F4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524-B264-4CA0-A10C-CB047FE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582-1790-45E1-93C8-9191A94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FE9-DAB8-4094-9EEA-44E48C2C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837-5554-46A6-980C-69C44BC5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B25-6D19-4E1B-81B7-9C9A1007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B95-1C60-4AE8-902E-2C9D609C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97A-49EF-4C42-B1DC-8500D7B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D2F-365A-470D-B038-64B550D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C4C3-E66A-4AEA-B6D0-A5DB3AEB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549360"/>
            <a:ext cx="82072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Belief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1" lang="en-US" sz="2400" spc="-1" strike="noStrike" baseline="30000">
                <a:solidFill>
                  <a:srgbClr val="000099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Belief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Jesus – Man &amp;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060640"/>
            <a:ext cx="8064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‘Hinge’ for Christianit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Identity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of J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ristianity claims Jesus = both God &amp;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ie. God the son  took on fl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low :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od the Son (eter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akes on flesh  (Inca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back to heaven with flesh (asc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642160" cy="172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EVIDENCE</a:t>
            </a: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i - B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w Testame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esus’ divi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mmanuel’ = God with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r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s claims (I am…….;   I and  the father are 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ther speaks “My 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see him was to ‘see the Fath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esus non-denial (blasphe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y Lord’…. ‘my God’  Thomas, Peter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y worshipped him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esus’ hum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orn, tired, hungry, bled, ….d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mited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ther N.T. letters affirm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.g.  Philippians 2:6,7  “..very nature God…made as a man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.g. 1 Cor 8;5 ‘one God…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EVIDENCE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ii -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ched i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tters, stories, creed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ed i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‘Church Council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ideas that Jesus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ly only God – looked like a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ly only a man – with ‘divine’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ort of ‘other’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: truly God &amp; truly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 – two 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IMPLIC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ity is Unique (God +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rap mind a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it happ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us’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s on new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now what God i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mportant to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= knowing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us’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s on new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a mere ‘man’ d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ins are signific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after death is a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23:19:12Z</dcterms:created>
  <dc:creator>Shore</dc:creator>
  <dc:description/>
  <dc:language>en-US</dc:language>
  <cp:lastModifiedBy>Shore</cp:lastModifiedBy>
  <dcterms:modified xsi:type="dcterms:W3CDTF">2008-02-29T03:57:27Z</dcterms:modified>
  <cp:revision>22</cp:revision>
  <dc:subject/>
  <dc:title>Slide 1</dc:title>
</cp:coreProperties>
</file>